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0.wmf" ContentType="image/x-wmf"/>
  <Override PartName="/ppt/media/camera.wav" ContentType="audio/x-wav"/>
  <Override PartName="/ppt/media/image6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8.png" ContentType="image/png"/>
  <Override PartName="/ppt/media/arrow.wav" ContentType="audio/x-wav"/>
  <Override PartName="/ppt/media/image4.png" ContentType="image/png"/>
  <Override PartName="/ppt/media/image5.png" ContentType="image/png"/>
  <Override PartName="/ppt/media/whoosh.wav" ContentType="audio/x-wav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jeu.c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kbylw.suda.edu.cn/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苏州大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5999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毕业设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论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管理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5640" y="188640"/>
            <a:ext cx="7613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学秘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172360" cy="4608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arrow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秘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主要功能说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推荐优秀教师和优秀论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毕设流程结束后，教学秘书根据教师和学生论文情况，推荐优秀指导教师和优秀论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截止日期设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教学秘书设置本学院各个阶段相关材料提交的截止时间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成绩总评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毕设流程结束后，教学秘书需要发布本学院学生的成绩，系统自动根据比例计算出总评成绩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过程信息统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教学秘书通过过程信息统计中的一些统计信息，可以查看到本学院毕设材料的统计信息，例如任务书的统计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特殊情况处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教学秘书处理论文各个阶段论文出现问题的材料信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帐号管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教学秘书可以维护本学院的教师、专业负责人、学院专家、答辩录入员和学生信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格导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教学秘书可以在表格导出中相应的毕设材料相应的毕设汇总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交流互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可通过发件箱、收件箱与其他各角色在系统中进行交流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1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400" y="16992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专业负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369720" y="907920"/>
            <a:ext cx="8429760" cy="4721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90400" y="204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负责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主要功能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核课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专业负责人审核教师申报的课题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核双选结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专业负责人对学生与老师选择的结果进行审核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核任务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专业负责人审核学生填写的任务书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配评阅教师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负责人给学生课题分配评阅教师（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种方式：按照教师分配、按照学生分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管理答辩小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专业负责人在系统中添加答辩组信息，分配答辩组成员及答辩组学生并且设置答辩录入员的帐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特殊情况处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为学生分配课题：给本专业没有课题的学生分配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课题调整：专业负责人调整本专业课题信息，例如调整课题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审核教师修改课题：专业负责人审核教师修改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过程信息统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专业负责人通过过程信息统计中的一些统计信息，可以查看到本专业毕设材料的统计信息，例如任务书，论文的统计等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帐号管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添加答辩录入员及修改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1" name="whoosh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4112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指导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457200" y="907920"/>
            <a:ext cx="8244000" cy="4926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  <p:sndAc>
      <p:stSnd>
        <p:snd r:embed="rId2" name="whoosh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导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0936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主要功能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申报课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教师申报课题信息（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指定学生（推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、盲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种模式，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确认选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教师确认学生的选题（对于盲选课题而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核任务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学生课题确定后（即教学院长发布选题后）学生填写任务书，指导教师审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核外文翻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教师审核学生提交的外文翻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核文献综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教师审核学生所提交的文献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核周进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教师查看审核学生填写的周进展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可选流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核中期检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教师在中期检查阶段审核学生提交的中期检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阅设计（论文）草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教师审核学生所提交的论文草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可选流程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审阅设计（论文）定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教师审核学生所提交的论文定稿并评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特殊情况处理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已审课题修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专业负责人发布选题后，如果需要修改课题信息，                                 则教师可以在此功能下修改课题，修改后需要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主任审核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帐号管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维护个人信息及修改密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流互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可通过发件箱、收件箱与其他各角色在系统中进行交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  <p:sndAc>
      <p:stSnd>
        <p:snd r:embed="rId1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047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25520" y="836640"/>
            <a:ext cx="8315280" cy="4975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  <p:sndAc>
      <p:stSnd>
        <p:snd r:embed="rId2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主要功能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学生选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学生在系统中选择课题，选题后等待对应指导教师选择确认（学生也可以自己申报课题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填写任务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学生可以在该菜单填写任务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外文翻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学生提交外文翻译原文和译文，提交后教师审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上传文献综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学生上传文献综述，指导教师审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论文定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学生在系统中提交论文定稿，提交后教师审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周进展情况记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学生在毕设过程中，填写周进展进展情况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查看答辩信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学生可以在此功能下查看所在答辩组信息例如答辩时间、地点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论文定稿或答辩后修改稿提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学生论文经过审核后，如果论文还需要修改重新提交，则可以在此功能菜单下提交， 提交后教师审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帐号管理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维护个人信息及修改密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流互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通过发件箱、收件箱与其他各角色在系统中进行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1" name="camera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11280" y="552600"/>
            <a:ext cx="777564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服务热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有技术问题请咨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咨询电话：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25-836939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139826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0139826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技术服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80632010     288063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国统一客服电话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-050-80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changedu.com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39640" y="4365720"/>
            <a:ext cx="7775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电话-1"/>
          <p:cNvPicPr/>
          <p:nvPr/>
        </p:nvPicPr>
        <p:blipFill>
          <a:blip r:embed="rId1"/>
          <a:stretch/>
        </p:blipFill>
        <p:spPr>
          <a:xfrm>
            <a:off x="684360" y="2421000"/>
            <a:ext cx="1218960" cy="1019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  <p:sndAc>
      <p:stSnd>
        <p:snd r:embed="rId2" name="camera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2252520" y="1052640"/>
          <a:ext cx="469584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2520" y="1052640"/>
                    <a:ext cx="469584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3"/>
          <p:cNvSpPr/>
          <p:nvPr/>
        </p:nvSpPr>
        <p:spPr>
          <a:xfrm>
            <a:off x="2950920" y="3846600"/>
            <a:ext cx="34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 </a:t>
            </a:r>
            <a:r>
              <a:rPr b="1" lang="zh-CN" sz="8000" spc="-1" strike="noStrike">
                <a:solidFill>
                  <a:srgbClr val="000099"/>
                </a:solidFill>
                <a:latin typeface="Arial"/>
                <a:ea typeface="经典平黑简"/>
              </a:rPr>
              <a:t>谢谢 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目 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、系统概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二、系统流程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、系统初始化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、角色主要功能介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五、其他各角色功能及截图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826920" y="1484280"/>
            <a:ext cx="7705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该系统覆盖毕业设计（论文）工作的全部流程，包括政策的发布、表格的上传下载、课题申报、课题审核、选题确认、任务书、工作进展情况记录和过程控制、论文的提交和过程控制、评阅和答辩秘书的分配、评阅过程控制、答辩过程控制、论文各阶段的评分、成绩汇总和修改、抽检及评优、文档材料打印、历史记录归档和查询，真正实现毕业设计（论文）整套操作管理流程无纸化、网络化。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539640" y="4365720"/>
            <a:ext cx="7775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51"/>
          <p:cNvGrpSpPr/>
          <p:nvPr/>
        </p:nvGrpSpPr>
        <p:grpSpPr>
          <a:xfrm>
            <a:off x="611280" y="620640"/>
            <a:ext cx="7710480" cy="5651640"/>
            <a:chOff x="611280" y="620640"/>
            <a:chExt cx="7710480" cy="5651640"/>
          </a:xfrm>
        </p:grpSpPr>
        <p:sp>
          <p:nvSpPr>
            <p:cNvPr id="79" name="Text Box 4"/>
            <p:cNvSpPr/>
            <p:nvPr/>
          </p:nvSpPr>
          <p:spPr>
            <a:xfrm>
              <a:off x="611280" y="119700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二步：专业负责人审核课题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"/>
            <p:cNvSpPr/>
            <p:nvPr/>
          </p:nvSpPr>
          <p:spPr>
            <a:xfrm>
              <a:off x="611280" y="62064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一步：指导教师申报课题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6"/>
            <p:cNvSpPr/>
            <p:nvPr/>
          </p:nvSpPr>
          <p:spPr>
            <a:xfrm>
              <a:off x="611280" y="170028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三步：教学院长发布课题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7"/>
            <p:cNvSpPr/>
            <p:nvPr/>
          </p:nvSpPr>
          <p:spPr>
            <a:xfrm>
              <a:off x="611280" y="222264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四步：学生选题，指导老师选题审核并确认选题学生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8"/>
            <p:cNvSpPr/>
            <p:nvPr/>
          </p:nvSpPr>
          <p:spPr>
            <a:xfrm>
              <a:off x="611280" y="302724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五步：教学院长发布双选结果   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9"/>
            <p:cNvSpPr/>
            <p:nvPr/>
          </p:nvSpPr>
          <p:spPr>
            <a:xfrm>
              <a:off x="611280" y="357336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六步：学生填写任务书，指导教师审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2"/>
            <p:cNvSpPr/>
            <p:nvPr/>
          </p:nvSpPr>
          <p:spPr>
            <a:xfrm>
              <a:off x="611280" y="529416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八步：学生提交中期检查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3"/>
            <p:cNvSpPr/>
            <p:nvPr/>
          </p:nvSpPr>
          <p:spPr>
            <a:xfrm>
              <a:off x="611280" y="595008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九步：指导教师、专业负责人、教学院长审核中期检查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5"/>
            <p:cNvSpPr/>
            <p:nvPr/>
          </p:nvSpPr>
          <p:spPr>
            <a:xfrm>
              <a:off x="4859280" y="220500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三步：导师审核定稿和评分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6"/>
            <p:cNvSpPr/>
            <p:nvPr/>
          </p:nvSpPr>
          <p:spPr>
            <a:xfrm>
              <a:off x="4859280" y="273852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四步：专业负责人分配评阅教师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7"/>
            <p:cNvSpPr/>
            <p:nvPr/>
          </p:nvSpPr>
          <p:spPr>
            <a:xfrm>
              <a:off x="4859280" y="3314880"/>
              <a:ext cx="34578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五步：评阅教师评阅论文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8"/>
            <p:cNvSpPr/>
            <p:nvPr/>
          </p:nvSpPr>
          <p:spPr>
            <a:xfrm>
              <a:off x="4859280" y="3890880"/>
              <a:ext cx="3456000" cy="354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六步：专业负责人组织答辩组</a:t>
              </a:r>
              <a:r>
                <a:rPr b="0" lang="zh-CN" sz="1500" spc="-1" strike="noStrike" u="sng">
                  <a:solidFill>
                    <a:srgbClr val="009999"/>
                  </a:solidFill>
                  <a:uFillTx/>
                  <a:latin typeface="Arial"/>
                  <a:hlinkClick r:id="rId1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9"/>
            <p:cNvSpPr/>
            <p:nvPr/>
          </p:nvSpPr>
          <p:spPr>
            <a:xfrm>
              <a:off x="4859280" y="439596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七：答辩秘书录入答辩成绩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1"/>
            <p:cNvSpPr/>
            <p:nvPr/>
          </p:nvSpPr>
          <p:spPr>
            <a:xfrm>
              <a:off x="4838760" y="489888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八步：教学秘书成绩总评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2"/>
            <p:cNvSpPr/>
            <p:nvPr/>
          </p:nvSpPr>
          <p:spPr>
            <a:xfrm>
              <a:off x="4859280" y="551808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九步：教学秘书录入工作总结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4"/>
            <p:cNvSpPr/>
            <p:nvPr/>
          </p:nvSpPr>
          <p:spPr>
            <a:xfrm>
              <a:off x="2122560" y="98100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>
              <a:off x="2122560" y="155736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2122560" y="2060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7"/>
            <p:cNvSpPr/>
            <p:nvPr/>
          </p:nvSpPr>
          <p:spPr>
            <a:xfrm>
              <a:off x="2122560" y="285264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>
              <a:off x="2122560" y="3357720"/>
              <a:ext cx="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0"/>
            <p:cNvSpPr/>
            <p:nvPr/>
          </p:nvSpPr>
          <p:spPr>
            <a:xfrm>
              <a:off x="2122560" y="422100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2"/>
            <p:cNvSpPr/>
            <p:nvPr/>
          </p:nvSpPr>
          <p:spPr>
            <a:xfrm>
              <a:off x="2122560" y="508464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4"/>
            <p:cNvSpPr/>
            <p:nvPr/>
          </p:nvSpPr>
          <p:spPr>
            <a:xfrm>
              <a:off x="6443640" y="256536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5"/>
            <p:cNvSpPr/>
            <p:nvPr/>
          </p:nvSpPr>
          <p:spPr>
            <a:xfrm>
              <a:off x="6443640" y="313056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6"/>
            <p:cNvSpPr/>
            <p:nvPr/>
          </p:nvSpPr>
          <p:spPr>
            <a:xfrm>
              <a:off x="6443640" y="3710160"/>
              <a:ext cx="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7"/>
            <p:cNvSpPr/>
            <p:nvPr/>
          </p:nvSpPr>
          <p:spPr>
            <a:xfrm>
              <a:off x="6443640" y="422100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8"/>
            <p:cNvSpPr/>
            <p:nvPr/>
          </p:nvSpPr>
          <p:spPr>
            <a:xfrm>
              <a:off x="6443640" y="472608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0"/>
            <p:cNvSpPr/>
            <p:nvPr/>
          </p:nvSpPr>
          <p:spPr>
            <a:xfrm>
              <a:off x="6443640" y="529416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42"/>
            <p:cNvSpPr/>
            <p:nvPr/>
          </p:nvSpPr>
          <p:spPr>
            <a:xfrm>
              <a:off x="611280" y="443700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七步：学生提交文献综述、外文翻译等材料 ，指导教师审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44"/>
            <p:cNvSpPr/>
            <p:nvPr/>
          </p:nvSpPr>
          <p:spPr>
            <a:xfrm>
              <a:off x="4859280" y="62064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步：学生提交论文草稿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</a:rPr>
                <a:t>（可选）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45"/>
            <p:cNvSpPr/>
            <p:nvPr/>
          </p:nvSpPr>
          <p:spPr>
            <a:xfrm>
              <a:off x="4838760" y="1125360"/>
              <a:ext cx="347832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一步：指导教师审核论文草稿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6"/>
            <p:cNvSpPr/>
            <p:nvPr/>
          </p:nvSpPr>
          <p:spPr>
            <a:xfrm>
              <a:off x="6443640" y="974880"/>
              <a:ext cx="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7"/>
            <p:cNvSpPr/>
            <p:nvPr/>
          </p:nvSpPr>
          <p:spPr>
            <a:xfrm>
              <a:off x="6461280" y="148428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8"/>
            <p:cNvSpPr/>
            <p:nvPr/>
          </p:nvSpPr>
          <p:spPr>
            <a:xfrm>
              <a:off x="6443640" y="205416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49"/>
            <p:cNvSpPr/>
            <p:nvPr/>
          </p:nvSpPr>
          <p:spPr>
            <a:xfrm>
              <a:off x="4865760" y="1658880"/>
              <a:ext cx="3456000" cy="322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Arial"/>
                </a:rPr>
                <a:t>第十二步：学生提交论文定稿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32"/>
          <p:cNvSpPr/>
          <p:nvPr/>
        </p:nvSpPr>
        <p:spPr>
          <a:xfrm>
            <a:off x="2124000" y="572292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116000" y="341280"/>
            <a:ext cx="705636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系统初始化说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系统管理员或教学秘书需要激活参与毕设的教师工号和学生学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系统管理员需要设置各学院教学秘书和教学院长角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系统管理员或教学秘书需要配置本学院各个专业负责人的角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系统管理员设置教师所带学生数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系统管理员在初始管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教师所带学生数设置，设置本学院教   师所带的学生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提示功能，系统中所有涉及到主流程的操作部分，在界面右上角  都自动有小窗口提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毕业设计论文系统地址：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kbylw.suda.edu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教师登录：教师工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密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第一次登录与工号相同，登录后需修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登录：学生学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密码（学号，登录后需修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39640" y="4365720"/>
            <a:ext cx="7775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2" name="camera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187280" y="1131840"/>
            <a:ext cx="676944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各角色功能及截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系统管理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教学院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教学秘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专业负责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指导教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学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4365720"/>
            <a:ext cx="7775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系统管理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1"/>
          <a:stretch/>
        </p:blipFill>
        <p:spPr>
          <a:xfrm>
            <a:off x="395280" y="969840"/>
            <a:ext cx="8340840" cy="46450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arrow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学院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" descr=""/>
          <p:cNvPicPr/>
          <p:nvPr/>
        </p:nvPicPr>
        <p:blipFill>
          <a:blip r:embed="rId1"/>
          <a:stretch/>
        </p:blipFill>
        <p:spPr>
          <a:xfrm>
            <a:off x="365040" y="907920"/>
            <a:ext cx="8321760" cy="4635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院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主要功能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待发布的课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教学院长发布教师申报的盲选课题，发布后学生才可选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布双选结果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生选题教师确认后，教学院长审核发布双选结果（即审核发布选题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审核中期检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教学院长审核学生填写的中期检查信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程信息统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教学院长通过过程信息统计中的一些统计信息，可以查看到本学院毕设材料的统计信息，例如任务书、评阅答辩及成绩的统计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帐号管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教学院长可以维护个人信息及修改密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交流互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可通过发件箱、收件箱与其他各角色在系统中进行交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  <p:sndAc>
      <p:stSnd>
        <p:snd r:embed="rId1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7:13:57Z</dcterms:created>
  <dc:creator>xian</dc:creator>
  <dc:description/>
  <dc:language>en-US</dc:language>
  <cp:lastModifiedBy>k139</cp:lastModifiedBy>
  <dcterms:modified xsi:type="dcterms:W3CDTF">2016-09-28T05:04:19Z</dcterms:modified>
  <cp:revision>765</cp:revision>
  <dc:subject/>
  <dc:title>幻灯片 1</dc:title>
</cp:coreProperties>
</file>